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ABFC5-6D56-4EAE-B61D-EFC96C66F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6EDD1-E502-46DE-9E1C-DC185D770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7A52C-AA5F-4DC2-AE1E-28A9C4B43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CC2EB-3E3E-4064-9271-459E897D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F76FB-8450-41DE-A947-58E89A88D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AB9B4-689B-4861-875F-1D4DFF7FF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B855-F064-425E-98ED-15A35ACDE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C47A3-CDC4-458D-83A7-82C494A05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A0673-B7FC-406E-B0AB-DA17C5E5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DD950-40C7-441F-914E-0B487BFF5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20FBF-1E5B-4E04-BDAD-117B4C32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DF28-1896-4165-86DB-1317BB78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99835-6030-42E3-8DFF-9B5494894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CE283-8034-486A-B1F5-7C094A82D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D73D0-72D2-477D-AC1F-52486B127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65E00-8A63-4909-AB94-A124C2A65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0952D-6AB6-43FF-AA86-25A690A35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0FA65-83DF-4224-BA8C-8D583CFD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B04B-9FD8-490C-A2A2-CA44C793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28477-DDE8-4658-BDB8-AE7E09CAA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81B1-A20F-4499-B4DE-70771025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2650-3ABD-4069-AB6F-DC222638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02C0D-0BFF-4CA0-ACED-84D9C70D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FB20-5FAD-4206-AE0C-08BFC2F73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DD4A-D89D-41A2-B295-F57DE7FCEE84}"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2762-7623-4989-B830-6B253F7536EA}"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0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a5c6ba"/>
                </a:solidFill>
                <a:uFillTx/>
                <a:latin typeface="Chalkboard"/>
              </a:rPr>
              <a:t>Current Events 10/31/08</a:t>
            </a:r>
            <a:endParaRPr b="0" lang="en-US" sz="4000" spc="-1" strike="noStrike">
              <a:solidFill>
                <a:srgbClr val="000000"/>
              </a:solidFill>
              <a:latin typeface="Arial"/>
            </a:endParaRPr>
          </a:p>
        </p:txBody>
      </p:sp>
      <p:sp>
        <p:nvSpPr>
          <p:cNvPr id="83" name="PlaceHolder 2"/>
          <p:cNvSpPr>
            <a:spLocks noGrp="1"/>
          </p:cNvSpPr>
          <p:nvPr>
            <p:ph type="subTitle"/>
          </p:nvPr>
        </p:nvSpPr>
        <p:spPr>
          <a:xfrm>
            <a:off x="-360" y="5486400"/>
            <a:ext cx="213372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c6ba"/>
                </a:solidFill>
                <a:latin typeface="Chalkboard"/>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c6ba"/>
                </a:solidFill>
                <a:latin typeface="Chalkboard"/>
              </a:rPr>
              <a:t>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Bombings In India</a:t>
            </a:r>
            <a:endParaRPr b="0" lang="en-US" sz="4400" spc="-1" strike="noStrike">
              <a:solidFill>
                <a:srgbClr val="000000"/>
              </a:solidFill>
              <a:latin typeface="Arial"/>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In a northeastern state of India called Assam four bombs were set off</a:t>
            </a:r>
            <a:endParaRPr b="0" lang="en-US" sz="2400" spc="-1" strike="noStrike">
              <a:solidFill>
                <a:srgbClr val="000000"/>
              </a:solidFill>
              <a:latin typeface="Arial"/>
            </a:endParaRPr>
          </a:p>
          <a:p>
            <a:pPr marL="343080" indent="-343080">
              <a:lnSpc>
                <a:spcPct val="100000"/>
              </a:lnSpc>
              <a:spcBef>
                <a:spcPts val="601"/>
              </a:spcBef>
              <a:buClr>
                <a:srgbClr val="a5c6b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Georgia"/>
              </a:rPr>
              <a:t>Assam is a state that has been,for years, torn apart by a separatist insurgency led by the United Liberation Front of Assam</a:t>
            </a:r>
            <a:endParaRPr b="0" lang="en-US" sz="2400" spc="-1" strike="noStrike">
              <a:solidFill>
                <a:srgbClr val="000000"/>
              </a:solidFill>
              <a:latin typeface="Arial"/>
            </a:endParaRPr>
          </a:p>
          <a:p>
            <a:pPr marL="343080" indent="-343080">
              <a:lnSpc>
                <a:spcPct val="100000"/>
              </a:lnSpc>
              <a:spcBef>
                <a:spcPts val="601"/>
              </a:spcBef>
              <a:buClr>
                <a:srgbClr val="a5c6b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Georgia"/>
              </a:rPr>
              <a:t>Nine blasts were reported in four towns, including three in the Capital of Guwahati</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2286000" y="-228600"/>
            <a:ext cx="5649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7" name=""/>
          <p:cNvSpPr/>
          <p:nvPr/>
        </p:nvSpPr>
        <p:spPr>
          <a:xfrm>
            <a:off x="2520" y="0"/>
            <a:ext cx="185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International</a:t>
            </a:r>
            <a:endParaRPr b="0" lang="en-US" sz="2400" spc="-1" strike="noStrike">
              <a:solidFill>
                <a:srgbClr val="000000"/>
              </a:solidFill>
              <a:latin typeface="Arial"/>
            </a:endParaRPr>
          </a:p>
        </p:txBody>
      </p:sp>
      <p:pic>
        <p:nvPicPr>
          <p:cNvPr id="88" name="" descr=""/>
          <p:cNvPicPr/>
          <p:nvPr/>
        </p:nvPicPr>
        <p:blipFill>
          <a:blip r:embed="rId1"/>
          <a:stretch/>
        </p:blipFill>
        <p:spPr>
          <a:xfrm>
            <a:off x="990720" y="4648320"/>
            <a:ext cx="3886200" cy="21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692280"/>
            <a:ext cx="8382240" cy="547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Significance</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Seven bombings within the past four month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e people of India are pushing police to arrest people in order to help stop the bombing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Police say that on arresting some people traces were found that pointed to Al Qaeda</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Bombing furthers the fighting in the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Early Vo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Predicted to go up to 30%-35% from the 24% in 2004</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During Early Voting Republicans usually tend to lead in vote count over Democrat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is year Democrats are leading in the vote count over Republicans</a:t>
            </a:r>
            <a:endParaRPr b="0" lang="en-US" sz="2800" spc="-1" strike="noStrike">
              <a:solidFill>
                <a:srgbClr val="000000"/>
              </a:solidFill>
              <a:latin typeface="Arial"/>
            </a:endParaRPr>
          </a:p>
        </p:txBody>
      </p:sp>
      <p:sp>
        <p:nvSpPr>
          <p:cNvPr id="94" name=""/>
          <p:cNvSpPr/>
          <p:nvPr/>
        </p:nvSpPr>
        <p:spPr>
          <a:xfrm>
            <a:off x="2520" y="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National</a:t>
            </a:r>
            <a:endParaRPr b="0" lang="en-US" sz="2400" spc="-1" strike="noStrike">
              <a:solidFill>
                <a:srgbClr val="000000"/>
              </a:solidFill>
              <a:latin typeface="Arial"/>
            </a:endParaRPr>
          </a:p>
        </p:txBody>
      </p:sp>
      <p:pic>
        <p:nvPicPr>
          <p:cNvPr id="95" name="" descr=""/>
          <p:cNvPicPr/>
          <p:nvPr/>
        </p:nvPicPr>
        <p:blipFill>
          <a:blip r:embed="rId1"/>
          <a:stretch/>
        </p:blipFill>
        <p:spPr>
          <a:xfrm>
            <a:off x="5486400" y="4343400"/>
            <a:ext cx="3352680" cy="224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Significanc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In states that allow early voting without excuse the voters are already at a quarter of the full voting population</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e amount of early voting could cause the news stations polling results to be off</a:t>
            </a:r>
            <a:endParaRPr b="0" lang="en-US" sz="2800" spc="-1" strike="noStrike">
              <a:solidFill>
                <a:srgbClr val="000000"/>
              </a:solidFill>
              <a:latin typeface="Arial"/>
            </a:endParaRPr>
          </a:p>
        </p:txBody>
      </p:sp>
      <p:pic>
        <p:nvPicPr>
          <p:cNvPr id="98" name="" descr=""/>
          <p:cNvPicPr/>
          <p:nvPr/>
        </p:nvPicPr>
        <p:blipFill>
          <a:blip r:embed="rId1"/>
          <a:stretch/>
        </p:blipFill>
        <p:spPr>
          <a:xfrm>
            <a:off x="5562720" y="4317840"/>
            <a:ext cx="3322440" cy="22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20560"/>
            <a:ext cx="7696080" cy="587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3429000"/>
            <a:ext cx="5105520" cy="26668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Author’s View Point:</a:t>
            </a:r>
            <a:endParaRPr b="0" lang="en-US" sz="28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The author’s view point is that all the wars and economy problems won’t just stop when one of the candidates becomes president. We will still have the “ghosts of our past” haunting the government.</a:t>
            </a:r>
            <a:endParaRPr b="0" lang="en-US" sz="2400" spc="-1" strike="noStrike">
              <a:solidFill>
                <a:srgbClr val="000000"/>
              </a:solidFill>
              <a:latin typeface="Arial"/>
            </a:endParaRPr>
          </a:p>
        </p:txBody>
      </p:sp>
      <p:pic>
        <p:nvPicPr>
          <p:cNvPr id="101" name="" descr=""/>
          <p:cNvPicPr/>
          <p:nvPr/>
        </p:nvPicPr>
        <p:blipFill>
          <a:blip r:embed="rId1"/>
          <a:stretch/>
        </p:blipFill>
        <p:spPr>
          <a:xfrm>
            <a:off x="304920" y="228600"/>
            <a:ext cx="4038480" cy="3083040"/>
          </a:xfrm>
          <a:prstGeom prst="rect">
            <a:avLst/>
          </a:prstGeom>
          <a:ln w="0">
            <a:noFill/>
          </a:ln>
        </p:spPr>
      </p:pic>
      <p:sp>
        <p:nvSpPr>
          <p:cNvPr id="102" name=""/>
          <p:cNvSpPr/>
          <p:nvPr/>
        </p:nvSpPr>
        <p:spPr>
          <a:xfrm>
            <a:off x="5410080" y="304920"/>
            <a:ext cx="32767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Symbol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Symbolism: </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Reapers, Hanging man and Werewolf: </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Countries that are unhappy with the government’s actions</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Ghost:</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Nations Debt is a scary subject because of the enormity of it.</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Tomb Stone:</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Country’s economy has been killed by the govern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Bibliography</a:t>
            </a:r>
            <a:endParaRPr b="0" lang="en-US" sz="4400" spc="-1" strike="noStrike">
              <a:solidFill>
                <a:srgbClr val="000000"/>
              </a:solidFill>
              <a:latin typeface="Arial"/>
            </a:endParaRPr>
          </a:p>
        </p:txBody>
      </p:sp>
      <p:sp>
        <p:nvSpPr>
          <p:cNvPr id="104" name=""/>
          <p:cNvSpPr/>
          <p:nvPr/>
        </p:nvSpPr>
        <p:spPr>
          <a:xfrm>
            <a:off x="914400" y="1676520"/>
            <a:ext cx="7162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Bombings:</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cnn.com/2008/WORLD/asiapcf/10/30/india.explosions/index.html</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31/world/asia/31assam.html?_r=1&amp;hp&amp;oref=slogin</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03/world/asia/03india.html?ft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Early Voting:</a:t>
            </a:r>
            <a:endParaRPr b="0" lang="en-US" sz="24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30/us/politics/30early.ht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Political Cartoon:</a:t>
            </a:r>
            <a:endParaRPr b="0" lang="en-US" sz="24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Osaka"/>
              </a:rPr>
              <a:t>http://cagle.msnbc.com/news/Halloween08/2.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4:59:05Z</dcterms:created>
  <dc:creator>Yarmouth Schools</dc:creator>
  <dc:description/>
  <dc:language>en-US</dc:language>
  <cp:lastModifiedBy>Yarmouth Schools</cp:lastModifiedBy>
  <dcterms:modified xsi:type="dcterms:W3CDTF">2008-10-30T23:33:49Z</dcterms:modified>
  <cp:revision>4</cp:revision>
  <dc:subject/>
  <dc:title>Current Events 10/31/08</dc:title>
</cp:coreProperties>
</file>